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252-42DF-4286-9C21-F3772E4F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158-A86C-4688-B5D8-717661D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74D-73B1-4F78-8BD5-A5F80BFF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F6A-61D7-4ECE-87D9-72D1C055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A3F-81B5-4E82-B28C-8D3A28F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FED-3E1F-4FED-B695-83BDA59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549-BE53-48D1-8A01-4FCE0285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4D1-3CDD-41A5-976E-847A313B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A7B-2608-4184-97EE-9BF11767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873-703D-46DC-AE18-1C51F35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0D9-3400-4B99-85DB-01BD630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619-D3B8-4E97-8C79-55D9208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5C65-3555-4209-9CE4-8A621E25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2 Či dušu mi smútok a bôľ zaplav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ždy rá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dušu mi smút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ôľ zapl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radosť a mier vládne v ne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v nebes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ôj Pán lásk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 dbá o mňa, dej sa čo d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ždy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remeno hrie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ín zo mňa sň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kríž šiel sám kvôli m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pásy dar dáva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ši môj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vzdávať mu chcem úprim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ždy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dnes vierou zr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ten vznešený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blízko je spasenia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ríde náš Vykup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u s ním vojd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8:42:55Z</dcterms:modified>
  <cp:revision>20</cp:revision>
  <dc:subject/>
  <dc:title>Je veľký náš Pán, on slávy je Kráľ Nech do všetkých strán  spev vrúcnych znie chvál.</dc:title>
</cp:coreProperties>
</file>